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A75-87C1-4948-8768-3E42DC2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068-A6E6-42FA-9B76-89B58D7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BB0-EF47-4C42-B60B-B7C16102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0EE-8205-43A4-937F-9E212DB7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A56-98D3-4D85-B10C-68F364E1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D2B-DFE8-48F7-8873-6348C7A5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2A4-0424-4310-8B87-DDCB7E7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3DE-19D4-4EDC-A5F7-42DC992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085-CF8E-43AE-B6D5-EF8CEEB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AC2-1D95-4CE5-B11C-9BE2580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203-5087-4E2C-BE0A-D369B85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E9D-2407-446D-964A-6B682308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66DC-CD9D-440D-89B6-4AF6920D9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anking &amp; Consumer Sm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&amp; 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28600" y="1772640"/>
            <a:ext cx="861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ection is designed to have you take a more detailed look at what influences you spending and the proper utilization of banking servic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be more consumer savv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 does media influence purchasing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factors can influence a person's spending, however one of the most powerful is media. Billions of dollars are spent annually on the advertisement of goods and services and enticing custom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rand name items vs. generic item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times youth are not interested in generic items because they are not recognized in media. Essentially, name brand items are only more expensive because of their marketing cos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some price differences and cost saving ide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nt, radio and commercial sales techniqu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keting is a very profitable indust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ppealing in some ads and what it is about the ad that makes you want to spend money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 that these techniques alone can change spending behavi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ow does media make wants seem like need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oal of some ads is to make youth think the product is "cool" and to create a sense of purchase-pressure.  What influence do friends have on spending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o comparison shopp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big part of growing up is realizing that we cannot have all of our wants and learning how to compromise. Compare prices in different flyers, clip cou­pons and teach youth about bargaining for prices and services. Comparison shopping is a great a budgeting technique, and will also provide you with ways to accommodate wants with saving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478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hat can banks do for yo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hat banks and credit unions do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imilarities and differences between banks and credit uni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rvices offered at both banks and credit unions: accounts, loans and money transfe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differences between the two: membership, for-profit v. nonprofit and taxes vs. no tax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afety of financial institutions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ey, is safe and available. Money kept in banks and credit unions is insured up to $100,000 by the Federal Deposit Insurance Corporation (FDIC) and the National Credit Union Administration (NCUA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y are checking accounts importan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various payment options that come from having a checking account: check, debit card and money order. Despite checks being used less in today‘s economy, it is important for you to know the proper way to write a check, as there are still circumstances when payment by check is requir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open a checking accou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s of opening a checking account: going to the bank and talking with a representative, filling out an application, giving proper 10, signing a Signature Verification Card and depositing an opening balance. Most formal financial institutions have youth accounts with added safety and lenienc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actice writing a proper check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amine the different parts of a check and what is written in each section: date, payee, amount (in numerals and words), signature, memo, routing number, account number and check number. Remember that it is important to write legibly!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ayment op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are pros and cons of each payment method: cash, check, bank card, credit card and money orders. Pros and cons should include: safety, tracking ability, credit and transaction cos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admin</cp:lastModifiedBy>
  <dcterms:modified xsi:type="dcterms:W3CDTF">2011-06-08T14:31:47Z</dcterms:modified>
  <cp:revision>9</cp:revision>
  <dc:subject/>
  <dc:title>Road to Financial Maturity</dc:title>
</cp:coreProperties>
</file>